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4C9-8A9D-4112-A720-A079228D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423-5A52-416D-B056-C0AB8274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C82-FC10-4EB4-A580-4CCFAD9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868-56D3-4A4A-9199-788BFDF6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720-8E43-4DBD-89A5-174FC06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8A2-4282-416A-815E-07FD887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C09-20BF-4A5F-B90A-8CC61D55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CC4-ADFB-4284-86FC-73553D3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8E3-E1C1-4F8B-BB94-14F1682B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8D7-2099-46D9-872E-491C6FF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BB-4B11-44D4-9E27-64F6C42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70A-7AB5-47FA-9ACE-DB8F82B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3B8-85BD-4FCB-9A4E-31AEA2D7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812520"/>
            <a:ext cx="8547120" cy="31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ff33cc"/>
                </a:solidFill>
                <a:latin typeface="Arial"/>
              </a:rPr>
              <a:t>Chelsea’s cream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99ff"/>
                </a:solidFill>
                <a:latin typeface="Arial"/>
              </a:rPr>
              <a:t>Chelsea’s cream is your cre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